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AAAB-08B0-46A8-BE88-A30CD1FD9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2148-BCDF-401C-9309-E39175FE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4171-4412-4A75-B535-9F4E8A2DC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D288-DCFC-4303-9C75-3BCD2ED35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9D2F-C47F-4397-B363-3C97C414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1A3A-69C6-4EBD-A483-296115BD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A738-7B32-4FC2-A974-00314C12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345F-9E11-40AA-BA6D-E44D9FA8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9E47-CE0A-4A34-9FF5-B7A0C8D1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1D57-F7E7-4AEF-A2ED-37349235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3B7B-81F3-45E4-8F5B-190DF831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59E8-93CF-4539-8670-41462807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9F0A-F382-4A6D-8D8C-7DB97054D4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2" descr=""/>
          <p:cNvPicPr/>
          <p:nvPr/>
        </p:nvPicPr>
        <p:blipFill>
          <a:blip r:embed="rId2"/>
          <a:stretch/>
        </p:blipFill>
        <p:spPr>
          <a:xfrm>
            <a:off x="274680" y="334800"/>
            <a:ext cx="86612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РАСЧЕТ ЭНТРОПИИ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ИСТОЧНИКОВ ДИСКРЕТНЫХ СООБЩЕНИЙ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539640" y="1628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1)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ИДС БЕЗ ПАМЯТИ С РАВНОВЕРОЯТНЫМ ПОЯВЛЕНИЯ СИМВОЛОВ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79280" y="30686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2)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ИДС БЕЗ ПАМЯ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 РАЗНОЙ ВЕРОЯТНОСТЬЮ ПОЯВЛЕНИЕМ СИМВО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0" y="48690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3)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ИДС С ПАМЯТЬ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 РАЗНОЙ ВЕРОЯТНОСТЬЮ ПОЯВЛЕНИЕМ СИМВО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3"/>
          <p:cNvSpPr/>
          <p:nvPr/>
        </p:nvSpPr>
        <p:spPr>
          <a:xfrm>
            <a:off x="0" y="115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Энтропия сообщения на выходе  ИДС без памя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 равновероятным появлением симво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25"/>
          <p:cNvSpPr/>
          <p:nvPr/>
        </p:nvSpPr>
        <p:spPr>
          <a:xfrm>
            <a:off x="468360" y="1987920"/>
            <a:ext cx="7819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ак как,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(х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)=р(х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)=….р(х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)=1/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то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х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)=-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огда энтропия такого источн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)=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og</a:t>
            </a:r>
            <a:r>
              <a:rPr b="1" i="1" lang="ru-RU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[Бит/символ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3"/>
          <p:cNvSpPr/>
          <p:nvPr/>
        </p:nvSpPr>
        <p:spPr>
          <a:xfrm>
            <a:off x="1908000" y="5229360"/>
            <a:ext cx="5904000" cy="1008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0" y="115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Энтропия сообщения на выходе  ИДС без памя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 разной вероятностью появлением симво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1547640" y="119628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=n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(x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+n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(x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+…+n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(x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Group 16"/>
          <p:cNvGrpSpPr/>
          <p:nvPr/>
        </p:nvGrpSpPr>
        <p:grpSpPr>
          <a:xfrm>
            <a:off x="1332000" y="2348640"/>
            <a:ext cx="5833440" cy="1179360"/>
            <a:chOff x="1332000" y="2348640"/>
            <a:chExt cx="5833440" cy="1179360"/>
          </a:xfrm>
        </p:grpSpPr>
        <p:grpSp>
          <p:nvGrpSpPr>
            <p:cNvPr id="136" name="Group 15"/>
            <p:cNvGrpSpPr/>
            <p:nvPr/>
          </p:nvGrpSpPr>
          <p:grpSpPr>
            <a:xfrm>
              <a:off x="1620720" y="2348640"/>
              <a:ext cx="5544720" cy="1179360"/>
              <a:chOff x="1620720" y="2348640"/>
              <a:chExt cx="5544720" cy="1179360"/>
            </a:xfrm>
          </p:grpSpPr>
          <p:sp>
            <p:nvSpPr>
              <p:cNvPr id="137" name="Rectangle 11"/>
              <p:cNvSpPr/>
              <p:nvPr/>
            </p:nvSpPr>
            <p:spPr>
              <a:xfrm>
                <a:off x="1620720" y="2348640"/>
                <a:ext cx="5544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i="1" lang="ru-RU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I(x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)+n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i="1" lang="ru-RU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I(x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)+…+n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i="1" lang="ru-RU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I(x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Line 12"/>
              <p:cNvSpPr/>
              <p:nvPr/>
            </p:nvSpPr>
            <p:spPr>
              <a:xfrm>
                <a:off x="2341080" y="2925360"/>
                <a:ext cx="417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Text Box 13"/>
              <p:cNvSpPr/>
              <p:nvPr/>
            </p:nvSpPr>
            <p:spPr>
              <a:xfrm>
                <a:off x="3998520" y="30682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Rectangle 14"/>
            <p:cNvSpPr/>
            <p:nvPr/>
          </p:nvSpPr>
          <p:spPr>
            <a:xfrm>
              <a:off x="1332000" y="2636640"/>
              <a:ext cx="86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Text Box 17"/>
          <p:cNvSpPr/>
          <p:nvPr/>
        </p:nvSpPr>
        <p:spPr>
          <a:xfrm>
            <a:off x="1534320" y="1865160"/>
            <a:ext cx="63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еднее количество информации на символ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Object 19"/>
          <p:cNvGraphicFramePr/>
          <p:nvPr/>
        </p:nvGraphicFramePr>
        <p:xfrm>
          <a:off x="1979640" y="4365720"/>
          <a:ext cx="5738760" cy="67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4365720"/>
                    <a:ext cx="573876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18"/>
          <p:cNvGraphicFramePr/>
          <p:nvPr/>
        </p:nvGraphicFramePr>
        <p:xfrm>
          <a:off x="1971720" y="5229360"/>
          <a:ext cx="5272200" cy="109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1720" y="5229360"/>
                    <a:ext cx="527220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Rectangle 20"/>
          <p:cNvSpPr/>
          <p:nvPr/>
        </p:nvSpPr>
        <p:spPr>
          <a:xfrm>
            <a:off x="605160" y="3476880"/>
            <a:ext cx="854028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это частота появления символа,  то есть вероятность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(х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ле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вол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115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Энтропия сообщения на выходе  ИДС с память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16"/>
          <p:cNvGraphicFramePr/>
          <p:nvPr/>
        </p:nvGraphicFramePr>
        <p:xfrm>
          <a:off x="0" y="1268280"/>
          <a:ext cx="8856720" cy="11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885672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0" y="600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Object 11"/>
          <p:cNvGraphicFramePr/>
          <p:nvPr/>
        </p:nvGraphicFramePr>
        <p:xfrm>
          <a:off x="1376280" y="961920"/>
          <a:ext cx="6667560" cy="59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6280" y="961920"/>
                    <a:ext cx="666756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Rectangle 12"/>
          <p:cNvSpPr/>
          <p:nvPr/>
        </p:nvSpPr>
        <p:spPr>
          <a:xfrm>
            <a:off x="67680" y="61560"/>
            <a:ext cx="902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ависимость величины энтропии от вероят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явления символов в сообщен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0" y="600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1832760" y="-720"/>
            <a:ext cx="574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новные свойства энтропии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1080" y="1073880"/>
            <a:ext cx="62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0" y="227592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7"/>
          <p:cNvSpPr/>
          <p:nvPr/>
        </p:nvSpPr>
        <p:spPr>
          <a:xfrm>
            <a:off x="0" y="3283920"/>
            <a:ext cx="880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Энтропия аддитивн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Object 18"/>
          <p:cNvGraphicFramePr/>
          <p:nvPr/>
        </p:nvGraphicFramePr>
        <p:xfrm>
          <a:off x="755640" y="1052640"/>
          <a:ext cx="2146320" cy="62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052640"/>
                    <a:ext cx="214632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Rectangle 20"/>
          <p:cNvSpPr/>
          <p:nvPr/>
        </p:nvSpPr>
        <p:spPr>
          <a:xfrm>
            <a:off x="684360" y="2059920"/>
            <a:ext cx="32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=log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21"/>
          <p:cNvSpPr/>
          <p:nvPr/>
        </p:nvSpPr>
        <p:spPr>
          <a:xfrm>
            <a:off x="4647240" y="3161520"/>
            <a:ext cx="257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∙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(х)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0" y="600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Object 11"/>
          <p:cNvGraphicFramePr/>
          <p:nvPr/>
        </p:nvGraphicFramePr>
        <p:xfrm>
          <a:off x="189000" y="1579680"/>
          <a:ext cx="8744040" cy="37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000" y="1579680"/>
                    <a:ext cx="8744040" cy="3747960"/>
                  </a:xfrm>
                  <a:prstGeom prst="rect">
                    <a:avLst/>
                  </a:prstGeom>
                  <a:ln w="38160">
                    <a:solidFill>
                      <a:srgbClr val="cc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2" name="Rectangle 12"/>
          <p:cNvSpPr/>
          <p:nvPr/>
        </p:nvSpPr>
        <p:spPr>
          <a:xfrm>
            <a:off x="1052280" y="113760"/>
            <a:ext cx="677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збыточность источника сообщ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0" y="600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-396720" y="306756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хническая скор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484200" y="113760"/>
            <a:ext cx="79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оизводительность источника сообщ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Group 12"/>
          <p:cNvGrpSpPr/>
          <p:nvPr/>
        </p:nvGrpSpPr>
        <p:grpSpPr>
          <a:xfrm>
            <a:off x="1725480" y="4005360"/>
            <a:ext cx="7418520" cy="1957320"/>
            <a:chOff x="1725480" y="4005360"/>
            <a:chExt cx="7418520" cy="1957320"/>
          </a:xfrm>
        </p:grpSpPr>
        <p:graphicFrame>
          <p:nvGraphicFramePr>
            <p:cNvPr id="204" name="Object 13"/>
            <p:cNvGraphicFramePr/>
            <p:nvPr/>
          </p:nvGraphicFramePr>
          <p:xfrm>
            <a:off x="1725480" y="4005360"/>
            <a:ext cx="2157480" cy="1957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5" name="Object 1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25480" y="4005360"/>
                      <a:ext cx="2157480" cy="1957320"/>
                    </a:xfrm>
                    <a:prstGeom prst="rect">
                      <a:avLst/>
                    </a:prstGeom>
                    <a:ln w="38160">
                      <a:solidFill>
                        <a:srgbClr val="cc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06" name="Text Box 14"/>
            <p:cNvSpPr/>
            <p:nvPr/>
          </p:nvSpPr>
          <p:spPr>
            <a:xfrm>
              <a:off x="6572160" y="4637160"/>
              <a:ext cx="2571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Group 15"/>
          <p:cNvGrpSpPr/>
          <p:nvPr/>
        </p:nvGrpSpPr>
        <p:grpSpPr>
          <a:xfrm>
            <a:off x="1476360" y="1413000"/>
            <a:ext cx="5688000" cy="720720"/>
            <a:chOff x="1476360" y="1413000"/>
            <a:chExt cx="5688000" cy="720720"/>
          </a:xfrm>
        </p:grpSpPr>
        <p:graphicFrame>
          <p:nvGraphicFramePr>
            <p:cNvPr id="208" name="Object 16"/>
            <p:cNvGraphicFramePr/>
            <p:nvPr/>
          </p:nvGraphicFramePr>
          <p:xfrm>
            <a:off x="1476360" y="1425960"/>
            <a:ext cx="2996280" cy="707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9" name="Object 1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76360" y="1425960"/>
                      <a:ext cx="2996280" cy="707760"/>
                    </a:xfrm>
                    <a:prstGeom prst="rect">
                      <a:avLst/>
                    </a:prstGeom>
                    <a:ln w="38160">
                      <a:solidFill>
                        <a:srgbClr val="cc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10" name="Text Box 17"/>
            <p:cNvSpPr/>
            <p:nvPr/>
          </p:nvSpPr>
          <p:spPr>
            <a:xfrm>
              <a:off x="4559400" y="1413000"/>
              <a:ext cx="2604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1187280" y="289944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 ΔХ→ 0,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→ ∞ выражение примет  вид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256320" y="113760"/>
            <a:ext cx="87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Энтропия источников непрерывных сообщ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9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Object 18"/>
          <p:cNvGraphicFramePr/>
          <p:nvPr/>
        </p:nvGraphicFramePr>
        <p:xfrm>
          <a:off x="684360" y="1773360"/>
          <a:ext cx="7500960" cy="105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73360"/>
                    <a:ext cx="7500960" cy="10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Rectangle 21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26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Object 25"/>
          <p:cNvGraphicFramePr/>
          <p:nvPr/>
        </p:nvGraphicFramePr>
        <p:xfrm>
          <a:off x="1332000" y="5602320"/>
          <a:ext cx="5249880" cy="10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5602320"/>
                    <a:ext cx="52498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29"/>
          <p:cNvGraphicFramePr/>
          <p:nvPr/>
        </p:nvGraphicFramePr>
        <p:xfrm>
          <a:off x="826920" y="3630600"/>
          <a:ext cx="7693200" cy="1382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9" name="Object 2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920" y="3630600"/>
                    <a:ext cx="769320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Rectangle 30"/>
          <p:cNvSpPr/>
          <p:nvPr/>
        </p:nvSpPr>
        <p:spPr>
          <a:xfrm>
            <a:off x="179280" y="5011560"/>
            <a:ext cx="819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одинаковом и конечном  значении ΔХ  рассчитывают дифференциальную  энтропию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32"/>
          <p:cNvSpPr/>
          <p:nvPr/>
        </p:nvSpPr>
        <p:spPr>
          <a:xfrm>
            <a:off x="0" y="98028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)∙ ΔХ – вероятность появления отсче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-9684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ема №2. Источники сообщений. Основы цифровой обработки непрерывных сигна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Лекция №1. Источники дискретных и непрерывных сообщ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209520" y="2201760"/>
            <a:ext cx="87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Источники сообщений, их классификац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Информационные характеристики источников сообще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1"/>
          <p:cNvSpPr/>
          <p:nvPr/>
        </p:nvSpPr>
        <p:spPr>
          <a:xfrm>
            <a:off x="0" y="981000"/>
            <a:ext cx="2484360" cy="3457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43"/>
          <p:cNvGrpSpPr/>
          <p:nvPr/>
        </p:nvGrpSpPr>
        <p:grpSpPr>
          <a:xfrm>
            <a:off x="201600" y="2335320"/>
            <a:ext cx="8541360" cy="966240"/>
            <a:chOff x="201600" y="2335320"/>
            <a:chExt cx="8541360" cy="966240"/>
          </a:xfrm>
        </p:grpSpPr>
        <p:sp>
          <p:nvSpPr>
            <p:cNvPr id="47" name="Text Box 44"/>
            <p:cNvSpPr/>
            <p:nvPr/>
          </p:nvSpPr>
          <p:spPr>
            <a:xfrm flipH="1">
              <a:off x="201600" y="2559240"/>
              <a:ext cx="844560" cy="5205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И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Text Box 45"/>
            <p:cNvSpPr/>
            <p:nvPr/>
          </p:nvSpPr>
          <p:spPr>
            <a:xfrm>
              <a:off x="1325160" y="2354400"/>
              <a:ext cx="1067760" cy="947160"/>
            </a:xfrm>
            <a:prstGeom prst="rect">
              <a:avLst/>
            </a:prstGeom>
            <a:solidFill>
              <a:srgbClr val="cc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УП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СО/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Text Box 46"/>
            <p:cNvSpPr/>
            <p:nvPr/>
          </p:nvSpPr>
          <p:spPr>
            <a:xfrm>
              <a:off x="6658920" y="2335320"/>
              <a:ext cx="1067760" cy="947160"/>
            </a:xfrm>
            <a:prstGeom prst="rect">
              <a:avLst/>
            </a:prstGeom>
            <a:solidFill>
              <a:srgbClr val="cc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УП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С/С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Text Box 47"/>
            <p:cNvSpPr/>
            <p:nvPr/>
          </p:nvSpPr>
          <p:spPr>
            <a:xfrm>
              <a:off x="2679840" y="2544840"/>
              <a:ext cx="1033200" cy="520560"/>
            </a:xfrm>
            <a:prstGeom prst="rect">
              <a:avLst/>
            </a:prstGeom>
            <a:solidFill>
              <a:srgbClr val="ffff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ПР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Text Box 48"/>
            <p:cNvSpPr/>
            <p:nvPr/>
          </p:nvSpPr>
          <p:spPr>
            <a:xfrm>
              <a:off x="5320080" y="2544840"/>
              <a:ext cx="1008360" cy="520560"/>
            </a:xfrm>
            <a:prstGeom prst="rect">
              <a:avLst/>
            </a:prstGeom>
            <a:solidFill>
              <a:srgbClr val="ffff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ПР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Text Box 49"/>
            <p:cNvSpPr/>
            <p:nvPr/>
          </p:nvSpPr>
          <p:spPr>
            <a:xfrm>
              <a:off x="8030520" y="2544840"/>
              <a:ext cx="712440" cy="5205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П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Text Box 50"/>
            <p:cNvSpPr/>
            <p:nvPr/>
          </p:nvSpPr>
          <p:spPr>
            <a:xfrm>
              <a:off x="4010760" y="2544840"/>
              <a:ext cx="988560" cy="520560"/>
            </a:xfrm>
            <a:prstGeom prst="rect">
              <a:avLst/>
            </a:prstGeom>
            <a:solidFill>
              <a:srgbClr val="66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МС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51"/>
            <p:cNvSpPr/>
            <p:nvPr/>
          </p:nvSpPr>
          <p:spPr>
            <a:xfrm>
              <a:off x="1052640" y="2838600"/>
              <a:ext cx="21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52"/>
            <p:cNvSpPr/>
            <p:nvPr/>
          </p:nvSpPr>
          <p:spPr>
            <a:xfrm>
              <a:off x="2392200" y="2851200"/>
              <a:ext cx="279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53"/>
            <p:cNvSpPr/>
            <p:nvPr/>
          </p:nvSpPr>
          <p:spPr>
            <a:xfrm>
              <a:off x="3687840" y="2838600"/>
              <a:ext cx="279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54"/>
            <p:cNvSpPr/>
            <p:nvPr/>
          </p:nvSpPr>
          <p:spPr>
            <a:xfrm>
              <a:off x="5021280" y="2838600"/>
              <a:ext cx="279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5"/>
            <p:cNvSpPr/>
            <p:nvPr/>
          </p:nvSpPr>
          <p:spPr>
            <a:xfrm>
              <a:off x="6335640" y="2851200"/>
              <a:ext cx="279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56"/>
            <p:cNvSpPr/>
            <p:nvPr/>
          </p:nvSpPr>
          <p:spPr>
            <a:xfrm>
              <a:off x="7726320" y="2863800"/>
              <a:ext cx="273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AutoShape 100">
            <a:hlinkClick r:id="" action="ppaction://hlinkshowjump?jump=firstslide"/>
          </p:cNvPr>
          <p:cNvSpPr/>
          <p:nvPr/>
        </p:nvSpPr>
        <p:spPr>
          <a:xfrm>
            <a:off x="0" y="0"/>
            <a:ext cx="9144000" cy="571680"/>
          </a:xfrm>
          <a:custGeom>
            <a:avLst/>
            <a:gdLst>
              <a:gd name="textAreaLeft" fmla="*/ 36720 w 9144000"/>
              <a:gd name="textAreaRight" fmla="*/ 9107280 w 914400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345287" h="21600">
                <a:moveTo>
                  <a:pt x="0" y="0"/>
                </a:moveTo>
                <a:lnTo>
                  <a:pt x="345287" y="0"/>
                </a:lnTo>
                <a:lnTo>
                  <a:pt x="345287" y="21600"/>
                </a:lnTo>
                <a:lnTo>
                  <a:pt x="0" y="21600"/>
                </a:lnTo>
                <a:close/>
              </a:path>
              <a:path fill="lightenLess" w="345287" h="21600">
                <a:moveTo>
                  <a:pt x="0" y="0"/>
                </a:moveTo>
                <a:lnTo>
                  <a:pt x="345287" y="0"/>
                </a:lnTo>
                <a:lnTo>
                  <a:pt x="343887" y="1400"/>
                </a:lnTo>
                <a:lnTo>
                  <a:pt x="1400" y="1400"/>
                </a:lnTo>
                <a:close/>
              </a:path>
              <a:path fill="darken" w="345287" h="21600">
                <a:moveTo>
                  <a:pt x="345287" y="0"/>
                </a:moveTo>
                <a:lnTo>
                  <a:pt x="345287" y="21600"/>
                </a:lnTo>
                <a:lnTo>
                  <a:pt x="343887" y="20200"/>
                </a:lnTo>
                <a:lnTo>
                  <a:pt x="343887" y="1400"/>
                </a:lnTo>
                <a:close/>
              </a:path>
              <a:path fill="darkenLess" w="345287" h="21600">
                <a:moveTo>
                  <a:pt x="3452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887" y="20200"/>
                </a:lnTo>
                <a:close/>
              </a:path>
              <a:path fill="lighten" w="3452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СТРУКТУРНАЯ СХЕМА СИСТЕМЫ СВЯЗИ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01"/>
          <p:cNvSpPr/>
          <p:nvPr/>
        </p:nvSpPr>
        <p:spPr>
          <a:xfrm>
            <a:off x="2556000" y="2852640"/>
            <a:ext cx="0" cy="180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02"/>
          <p:cNvSpPr/>
          <p:nvPr/>
        </p:nvSpPr>
        <p:spPr>
          <a:xfrm>
            <a:off x="6516720" y="2852640"/>
            <a:ext cx="0" cy="180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03"/>
          <p:cNvSpPr/>
          <p:nvPr/>
        </p:nvSpPr>
        <p:spPr>
          <a:xfrm>
            <a:off x="2556000" y="4365720"/>
            <a:ext cx="3960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4"/>
          <p:cNvSpPr/>
          <p:nvPr/>
        </p:nvSpPr>
        <p:spPr>
          <a:xfrm>
            <a:off x="3260160" y="3686040"/>
            <a:ext cx="27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АНАЛ СВЯЗ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0" y="600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2"/>
          <p:cNvSpPr/>
          <p:nvPr/>
        </p:nvSpPr>
        <p:spPr>
          <a:xfrm>
            <a:off x="2000160" y="380880"/>
            <a:ext cx="5257800" cy="6289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точники сообщ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3"/>
          <p:cNvSpPr/>
          <p:nvPr/>
        </p:nvSpPr>
        <p:spPr>
          <a:xfrm>
            <a:off x="5276880" y="1695600"/>
            <a:ext cx="3352680" cy="609480"/>
          </a:xfrm>
          <a:prstGeom prst="wedgeRectCallout">
            <a:avLst>
              <a:gd name="adj1" fmla="val -62500"/>
              <a:gd name="adj2" fmla="val -150523"/>
            </a:avLst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скрет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4"/>
          <p:cNvSpPr/>
          <p:nvPr/>
        </p:nvSpPr>
        <p:spPr>
          <a:xfrm>
            <a:off x="399960" y="1684440"/>
            <a:ext cx="3353040" cy="590400"/>
          </a:xfrm>
          <a:prstGeom prst="wedgeRectCallout">
            <a:avLst>
              <a:gd name="adj1" fmla="val 62736"/>
              <a:gd name="adj2" fmla="val -153763"/>
            </a:avLst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прерыв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17"/>
          <p:cNvSpPr/>
          <p:nvPr/>
        </p:nvSpPr>
        <p:spPr>
          <a:xfrm rot="10800000">
            <a:off x="394920" y="3644640"/>
            <a:ext cx="3095640" cy="609480"/>
          </a:xfrm>
          <a:prstGeom prst="wedgeRectCallout">
            <a:avLst>
              <a:gd name="adj1" fmla="val -116976"/>
              <a:gd name="adj2" fmla="val 27239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468360" y="371628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памят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19"/>
          <p:cNvSpPr/>
          <p:nvPr/>
        </p:nvSpPr>
        <p:spPr>
          <a:xfrm rot="10800000">
            <a:off x="323640" y="5229000"/>
            <a:ext cx="3095640" cy="609480"/>
          </a:xfrm>
          <a:prstGeom prst="wedgeRectCallout">
            <a:avLst>
              <a:gd name="adj1" fmla="val -143027"/>
              <a:gd name="adj2" fmla="val 52577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1"/>
          <p:cNvSpPr/>
          <p:nvPr/>
        </p:nvSpPr>
        <p:spPr>
          <a:xfrm>
            <a:off x="395280" y="5300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з памя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22"/>
          <p:cNvSpPr/>
          <p:nvPr/>
        </p:nvSpPr>
        <p:spPr>
          <a:xfrm>
            <a:off x="4643280" y="3860640"/>
            <a:ext cx="505080" cy="144720"/>
          </a:xfrm>
          <a:prstGeom prst="rightArrow">
            <a:avLst>
              <a:gd name="adj1" fmla="val 50000"/>
              <a:gd name="adj2" fmla="val 87251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23"/>
          <p:cNvSpPr/>
          <p:nvPr/>
        </p:nvSpPr>
        <p:spPr>
          <a:xfrm>
            <a:off x="4572000" y="5445000"/>
            <a:ext cx="504720" cy="144720"/>
          </a:xfrm>
          <a:prstGeom prst="rightArrow">
            <a:avLst>
              <a:gd name="adj1" fmla="val 50000"/>
              <a:gd name="adj2" fmla="val 871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4"/>
          <p:cNvSpPr/>
          <p:nvPr/>
        </p:nvSpPr>
        <p:spPr>
          <a:xfrm>
            <a:off x="5219640" y="350028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за, битва, брига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5"/>
          <p:cNvSpPr/>
          <p:nvPr/>
        </p:nvSpPr>
        <p:spPr>
          <a:xfrm>
            <a:off x="5364000" y="508464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зо, батиав, дбиага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59560" y="2349360"/>
            <a:ext cx="85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Информационные характеристики источников сообщ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600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0" y="131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новные постулаты теории информ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0" y="1527480"/>
            <a:ext cx="903600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личество информации – величи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ддитивная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щее количество информации, содержащееся в нескольких сообщениях равно сумме объемов информации в каждом из них: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                    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I(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х</a:t>
            </a:r>
            <a:r>
              <a:rPr b="1" i="1" lang="ru-RU" sz="1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, х</a:t>
            </a:r>
            <a:r>
              <a:rPr b="1" i="1" lang="ru-RU" sz="1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) = I(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х</a:t>
            </a:r>
            <a:r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) + I(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х</a:t>
            </a:r>
            <a:r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Чем вероятнее событие, тем меньше информации получают в сообщении о его реализации. Количество информации, содержащейся в сообщении, вероятность реализации которого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=1, равно нул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личество информации – величина всегда положительная и не зависит от степени важности и эмо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Object 13"/>
          <p:cNvGraphicFramePr/>
          <p:nvPr/>
        </p:nvGraphicFramePr>
        <p:xfrm>
          <a:off x="476280" y="3645000"/>
          <a:ext cx="8334360" cy="124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3645000"/>
                    <a:ext cx="8334360" cy="1244520"/>
                  </a:xfrm>
                  <a:prstGeom prst="rect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4" name="Rectangle 27"/>
          <p:cNvSpPr/>
          <p:nvPr/>
        </p:nvSpPr>
        <p:spPr>
          <a:xfrm>
            <a:off x="0" y="44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оличество информации на выходе источника дискретных сообщения без памя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8"/>
          <p:cNvSpPr/>
          <p:nvPr/>
        </p:nvSpPr>
        <p:spPr>
          <a:xfrm>
            <a:off x="898560" y="981000"/>
            <a:ext cx="2736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{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…, 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32"/>
          <p:cNvSpPr/>
          <p:nvPr/>
        </p:nvSpPr>
        <p:spPr>
          <a:xfrm>
            <a:off x="2411280" y="1413000"/>
            <a:ext cx="289080" cy="649080"/>
          </a:xfrm>
          <a:prstGeom prst="downArrow">
            <a:avLst>
              <a:gd name="adj1" fmla="val 50000"/>
              <a:gd name="adj2" fmla="val 56133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Group 40"/>
          <p:cNvGrpSpPr/>
          <p:nvPr/>
        </p:nvGrpSpPr>
        <p:grpSpPr>
          <a:xfrm>
            <a:off x="1042920" y="1628640"/>
            <a:ext cx="6912000" cy="936720"/>
            <a:chOff x="1042920" y="1628640"/>
            <a:chExt cx="6912000" cy="936720"/>
          </a:xfrm>
        </p:grpSpPr>
        <p:sp>
          <p:nvSpPr>
            <p:cNvPr id="109" name="Rectangle 19"/>
            <p:cNvSpPr/>
            <p:nvPr/>
          </p:nvSpPr>
          <p:spPr>
            <a:xfrm>
              <a:off x="1042920" y="1628640"/>
              <a:ext cx="914400" cy="91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21"/>
            <p:cNvSpPr/>
            <p:nvPr/>
          </p:nvSpPr>
          <p:spPr>
            <a:xfrm>
              <a:off x="1979640" y="2060280"/>
              <a:ext cx="136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22"/>
            <p:cNvSpPr/>
            <p:nvPr/>
          </p:nvSpPr>
          <p:spPr>
            <a:xfrm>
              <a:off x="4500720" y="2062080"/>
              <a:ext cx="358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23"/>
            <p:cNvSpPr/>
            <p:nvPr/>
          </p:nvSpPr>
          <p:spPr>
            <a:xfrm>
              <a:off x="1114560" y="183024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И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Group 37"/>
            <p:cNvGrpSpPr/>
            <p:nvPr/>
          </p:nvGrpSpPr>
          <p:grpSpPr>
            <a:xfrm>
              <a:off x="3348000" y="1628640"/>
              <a:ext cx="1152720" cy="914400"/>
              <a:chOff x="3348000" y="1628640"/>
              <a:chExt cx="1152720" cy="914400"/>
            </a:xfrm>
          </p:grpSpPr>
          <p:sp>
            <p:nvSpPr>
              <p:cNvPr id="114" name="Rectangle 20"/>
              <p:cNvSpPr/>
              <p:nvPr/>
            </p:nvSpPr>
            <p:spPr>
              <a:xfrm>
                <a:off x="3348000" y="1628640"/>
                <a:ext cx="1152720" cy="9144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Text Box 24"/>
              <p:cNvSpPr/>
              <p:nvPr/>
            </p:nvSpPr>
            <p:spPr>
              <a:xfrm>
                <a:off x="3463920" y="1844640"/>
                <a:ext cx="93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Arial"/>
                  </a:rPr>
                  <a:t>УПС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Group 38"/>
            <p:cNvGrpSpPr/>
            <p:nvPr/>
          </p:nvGrpSpPr>
          <p:grpSpPr>
            <a:xfrm>
              <a:off x="4859280" y="1628640"/>
              <a:ext cx="2736720" cy="936720"/>
              <a:chOff x="4859280" y="1628640"/>
              <a:chExt cx="2736720" cy="936720"/>
            </a:xfrm>
          </p:grpSpPr>
          <p:sp>
            <p:nvSpPr>
              <p:cNvPr id="117" name="Rectangle 18"/>
              <p:cNvSpPr/>
              <p:nvPr/>
            </p:nvSpPr>
            <p:spPr>
              <a:xfrm>
                <a:off x="4859280" y="1628640"/>
                <a:ext cx="2736720" cy="9367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Text Box 25"/>
              <p:cNvSpPr/>
              <p:nvPr/>
            </p:nvSpPr>
            <p:spPr>
              <a:xfrm>
                <a:off x="5003640" y="1844640"/>
                <a:ext cx="244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Канал связи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Line 39"/>
            <p:cNvSpPr/>
            <p:nvPr/>
          </p:nvSpPr>
          <p:spPr>
            <a:xfrm>
              <a:off x="7596360" y="2062080"/>
              <a:ext cx="358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ЭНТРОП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539640" y="1628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О СРЕДНЕЕ КОЛИЧЕСТВО ИНФОРМАЦИИ, СОДЕРЖАЩЕЕСЯ  В ОДНОМ СИМВОЛЕ ИСТОЧНИКА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ДИНИЦА ИЗМЕРЕНИЯ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[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БИТ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СИМВОЛ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ера</cp:lastModifiedBy>
  <dcterms:modified xsi:type="dcterms:W3CDTF">2021-09-16T08:21:19Z</dcterms:modified>
  <cp:revision>32</cp:revision>
  <dc:subject/>
  <dc:title>PowerPoint Presentation</dc:title>
</cp:coreProperties>
</file>